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3EE8-25F4-4C78-A409-B87A94D9E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971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E1B1-F242-47C6-87D3-4371400F7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7797-08A2-4E25-BCA8-995590F75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97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97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97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EE08-3042-4848-8AE2-9A4D4F666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134DD-6DC6-433B-82AB-6461F1DCB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64912-EC28-4A6D-8FD4-1DDFF970E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21A4C-53BD-434B-A395-E024888B5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1573B-079C-4D02-934E-19A3927A0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56FF3-9929-4CC9-BDDE-711258CCC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63B63-103A-4846-8580-BFD13F483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E12E2-6A12-48F2-9254-E6F395C4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06B8-6751-4B58-AC21-7E9FF44D5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B25D8-7942-429D-AAD3-12FD0C6FB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0971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12E77-358A-4D2A-8350-BEEFE100B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0971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8DB53-972E-4EEA-AFE9-04E51159D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674A3-2D7E-4BDF-B6A2-8ED7FEEE2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097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097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097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ED07D-5B5E-4042-AD58-731CCC1C2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D6CB-CACD-4A60-BBC0-62332145E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CAC3-BDFF-4D6B-8939-5BA358734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A26C-DCBD-47BC-91BB-A9809FA7A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7E59-AFEF-4DD7-9BC0-85E3C9236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8BF2-09C0-4E1D-9DDC-F231DBCE3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0283-4F4A-4828-B768-A1C1E7BE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971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60F2-8F82-49A9-A2C3-DBD82C95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70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70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70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C14F4-8CE5-4A41-BB23-7FE5EE9C9C3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8784D-32C7-4ABA-8A16-040D36BD65A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Times New Roman"/>
              </a:rPr>
              <a:t>Why Use Spreadsheets?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hart Dat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981080" y="2057400"/>
            <a:ext cx="510552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924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stimation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62120" y="1905120"/>
            <a:ext cx="76327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eather Dat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371600" y="1752480"/>
            <a:ext cx="64897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Oh, and you can plan the budget for a picnic, too.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143000" y="2362320"/>
            <a:ext cx="6972480" cy="27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13:42:48Z</dcterms:created>
  <dc:creator>CMCSS CMCSS</dc:creator>
  <dc:description/>
  <cp:keywords/>
  <dc:language>en-US</dc:language>
  <cp:lastModifiedBy>CMCSS CMCSS</cp:lastModifiedBy>
  <cp:lastPrinted>1904-01-01T00:00:00Z</cp:lastPrinted>
  <dcterms:modified xsi:type="dcterms:W3CDTF">2010-06-09T16:02:07Z</dcterms:modified>
  <cp:revision>3</cp:revision>
  <dc:subject/>
  <dc:title>Why Use Excel?</dc:title>
</cp:coreProperties>
</file>